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04CE-190F-40BC-9875-0FC139515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80" y="450144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17E5-7B8F-4A6A-ABEC-4760252B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256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4883-3C48-4C82-B945-394367ADF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15080" y="259092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7880" y="259092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80" y="45014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15080" y="45014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7880" y="45014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45D6-CFC9-4383-8DBD-73EEF6849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3D8C-6E6C-4DDF-A02B-97446CF1F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88D2-6612-4D62-8F04-BCFD2A64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1A0B-D0D5-43C7-93DF-800B5550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4274-6E00-495E-AC44-9517A19E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C72D-EC60-471A-AA5D-411E437B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763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BEBC-8558-45E0-97BA-5D993DC7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28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3AE4-1D4E-421E-A61D-E69BAC7C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11BB-42EA-48A5-B841-6B24824B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256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15FC-DB5D-4B2B-AAE7-723837D1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280" y="450144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8160-6AAD-419F-9A78-B169EF1B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280" y="450144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1D3E-3F12-48DE-A2F2-73D287C5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8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256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B543-FF5B-4602-AE16-3343C43D9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15080" y="259092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7880" y="259092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280" y="45014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15080" y="45014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7880" y="45014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A0AA-A000-431F-814E-98DA51BA8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5C93-862F-45AC-9B71-F4FF35B6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F7A1-4FCF-420B-9DC4-B0ACC7BE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D8DF-2D9E-499D-8623-F826C15E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763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C91D-67D9-4783-B60D-10DDC8A6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8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98DE-3393-435C-945E-087FBE15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256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D557-D523-4F4E-B173-8AE6771E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80" y="450144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B87A-DDC6-47B1-A46C-43A9D6D5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c24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565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565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565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565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5654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5654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5654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195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654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654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1936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654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654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654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5CB2-97E5-4A58-AA44-E9B21C01AEF9}" type="slidenum">
              <a:rPr b="0" lang="en-US" sz="1000" spc="-1" strike="noStrike">
                <a:solidFill>
                  <a:srgbClr val="5654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4266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c24"/>
                </a:solidFill>
                <a:latin typeface="Arial Black"/>
              </a:rPr>
              <a:t>Click to edit the title text format</a:t>
            </a:r>
            <a:endParaRPr b="0" lang="en-US" sz="34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654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654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17220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654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654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654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98F8-1D4A-45F8-8A2E-D4B8C9AF470E}" type="slidenum">
              <a:rPr b="0" lang="en-US" sz="1000" spc="-1" strike="noStrike">
                <a:solidFill>
                  <a:srgbClr val="5654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4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654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4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654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654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4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654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654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54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654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654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54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654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5654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54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654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5654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54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654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4266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14c24"/>
                </a:solidFill>
                <a:latin typeface="Arial Black"/>
              </a:rPr>
              <a:t>My Centre</a:t>
            </a:r>
            <a:endParaRPr b="0" lang="en-US" sz="5400" spc="-1" strike="noStrike">
              <a:solidFill>
                <a:srgbClr val="414c24"/>
              </a:solidFill>
              <a:latin typeface="Arial Black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979640" y="2205000"/>
            <a:ext cx="5327640" cy="42354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050840" y="1600200"/>
            <a:ext cx="6964560" cy="46483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26920" y="1844640"/>
            <a:ext cx="6897960" cy="45910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56000" y="1628640"/>
            <a:ext cx="3558960" cy="47577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22:41:41Z</dcterms:created>
  <dc:creator>andrea.robertson</dc:creator>
  <dc:description/>
  <dc:language>en-US</dc:language>
  <cp:lastModifiedBy>andrea.robertson</cp:lastModifiedBy>
  <dcterms:modified xsi:type="dcterms:W3CDTF">2006-03-06T22:49:41Z</dcterms:modified>
  <cp:revision>2</cp:revision>
  <dc:subject/>
  <dc:title>My Centre</dc:title>
</cp:coreProperties>
</file>